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54040" y="3724200"/>
            <a:ext cx="773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54040" y="37242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517280" y="37242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169080" y="14130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784120" y="14130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54040" y="37242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169080" y="37242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784120" y="37242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561960" y="139680"/>
            <a:ext cx="830592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54040" y="37242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17280" y="37242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54040" y="3724200"/>
            <a:ext cx="773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54040" y="3724200"/>
            <a:ext cx="773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54040" y="37242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517280" y="37242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169080" y="14130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784120" y="14130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54040" y="37242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169080" y="37242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784120" y="37242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561960" y="139680"/>
            <a:ext cx="830592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554040" y="37242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17280" y="37242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54040" y="3724200"/>
            <a:ext cx="773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8" descr="alienTitleMaster1"/>
          <p:cNvPicPr/>
          <p:nvPr/>
        </p:nvPicPr>
        <p:blipFill>
          <a:blip r:embed="rId2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>
              <a:spcBef>
                <a:spcPts val="2112"/>
              </a:spcBef>
              <a:buClr>
                <a:srgbClr val="c23c40"/>
              </a:buClr>
              <a:buSzPct val="6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016000" indent="-223920">
              <a:spcBef>
                <a:spcPts val="2112"/>
              </a:spcBef>
              <a:buClr>
                <a:srgbClr val="000000"/>
              </a:buClr>
              <a:buSzPct val="6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016000" indent="-223920">
              <a:spcBef>
                <a:spcPts val="2112"/>
              </a:spcBef>
              <a:buClr>
                <a:srgbClr val="000000"/>
              </a:buClr>
              <a:buSzPct val="6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22" descr="alienBulletMaster3"/>
          <p:cNvPicPr/>
          <p:nvPr/>
        </p:nvPicPr>
        <p:blipFill>
          <a:blip r:embed="rId2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body"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>
              <a:spcBef>
                <a:spcPts val="2112"/>
              </a:spcBef>
              <a:buClr>
                <a:srgbClr val="c23c40"/>
              </a:buClr>
              <a:buSzPct val="6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016000" indent="-223920">
              <a:spcBef>
                <a:spcPts val="2112"/>
              </a:spcBef>
              <a:buClr>
                <a:srgbClr val="000000"/>
              </a:buClr>
              <a:buSzPct val="6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016000" indent="-223920">
              <a:spcBef>
                <a:spcPts val="2112"/>
              </a:spcBef>
              <a:buClr>
                <a:srgbClr val="000000"/>
              </a:buClr>
              <a:buSzPct val="6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42" name="Text Box 5"/>
          <p:cNvSpPr/>
          <p:nvPr/>
        </p:nvSpPr>
        <p:spPr>
          <a:xfrm>
            <a:off x="1298520" y="6119640"/>
            <a:ext cx="674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b0e39"/>
                </a:solidFill>
                <a:latin typeface="Arial"/>
                <a:ea typeface="Arial"/>
              </a:rPr>
              <a:t>Public Inform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8"/>
          <p:cNvSpPr/>
          <p:nvPr/>
        </p:nvSpPr>
        <p:spPr>
          <a:xfrm>
            <a:off x="1971360" y="6104880"/>
            <a:ext cx="88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E49B5-AB56-49EA-8E70-9C36CC5C1DEE}" type="slidenum">
              <a:rPr b="1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ruby-lang.org/en/" TargetMode="External"/><Relationship Id="rId2" Type="http://schemas.openxmlformats.org/officeDocument/2006/relationships/hyperlink" Target="http://www.ruby-lang.org/en/" TargetMode="External"/><Relationship Id="rId3" Type="http://schemas.openxmlformats.org/officeDocument/2006/relationships/hyperlink" Target="http://poignantguide.net/ruby/" TargetMode="External"/><Relationship Id="rId4" Type="http://schemas.openxmlformats.org/officeDocument/2006/relationships/hyperlink" Target="http://poignantguide.net/ruby/" TargetMode="External"/><Relationship Id="rId5" Type="http://schemas.openxmlformats.org/officeDocument/2006/relationships/hyperlink" Target="http://poignantguide.net/ruby/" TargetMode="External"/><Relationship Id="rId6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ruby-lang.org/en/downloads/" TargetMode="External"/><Relationship Id="rId2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739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The Alien Ruby </a:t>
            </a:r>
            <a:br>
              <a:rPr sz="3200"/>
            </a:b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Programming Overview</a:t>
            </a:r>
            <a:br>
              <a:rPr sz="3200"/>
            </a:b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1371600" y="251460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5000"/>
              </a:lnSpc>
              <a:spcBef>
                <a:spcPts val="21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ximum programmer delight!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5000"/>
              </a:lnSpc>
              <a:spcBef>
                <a:spcPts val="21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w with chunky bacon!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3200400" y="3714840"/>
            <a:ext cx="272412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Resources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53680" y="1413000"/>
            <a:ext cx="819468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in Ruby Websit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825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71953c"/>
                </a:solidFill>
                <a:uFillTx/>
                <a:latin typeface="Arial"/>
                <a:hlinkClick r:id="rId1"/>
              </a:rPr>
              <a:t>http://www.ruby-lang.org/en</a:t>
            </a:r>
            <a:r>
              <a:rPr b="0" lang="en-US" sz="2200" spc="-1" strike="noStrike" u="sng">
                <a:solidFill>
                  <a:srgbClr val="71953c"/>
                </a:solidFill>
                <a:uFillTx/>
                <a:latin typeface="Arial"/>
                <a:hlinkClick r:id="rId2"/>
              </a:rPr>
              <a:t>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ook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825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gramming Ruby: The Pragmatic Programmer’s Guid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675"/>
              </a:spcBef>
              <a:buClr>
                <a:srgbClr val="c23c40"/>
              </a:buClr>
              <a:buSzPct val="60000"/>
              <a:buFont typeface="Monotype Sorts" charset="2"/>
              <a:buChar char="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y Dave Thomas, Chad Fowler, Andy Hu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825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y’s (Poignant) Guide to Ruby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675"/>
              </a:spcBef>
              <a:buClr>
                <a:srgbClr val="c23c40"/>
              </a:buClr>
              <a:buSzPct val="60000"/>
              <a:buFont typeface="Monotype Sorts" charset="2"/>
              <a:buChar char="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71953c"/>
                </a:solidFill>
                <a:uFillTx/>
                <a:latin typeface="Arial"/>
                <a:hlinkClick r:id="rId3"/>
              </a:rPr>
              <a:t>http://</a:t>
            </a:r>
            <a:r>
              <a:rPr b="0" lang="en-US" sz="1800" spc="-1" strike="noStrike" u="sng">
                <a:solidFill>
                  <a:srgbClr val="71953c"/>
                </a:solidFill>
                <a:uFillTx/>
                <a:latin typeface="Arial"/>
                <a:hlinkClick r:id="rId4"/>
              </a:rPr>
              <a:t>poignantguide.net</a:t>
            </a:r>
            <a:r>
              <a:rPr b="0" lang="en-US" sz="1800" spc="-1" strike="noStrike" u="sng">
                <a:solidFill>
                  <a:srgbClr val="71953c"/>
                </a:solidFill>
                <a:uFillTx/>
                <a:latin typeface="Arial"/>
                <a:hlinkClick r:id="rId5"/>
              </a:rPr>
              <a:t>/ruby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Programming w/Ruby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b Rub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71953c"/>
                </a:solidFill>
                <a:uFillTx/>
                <a:latin typeface="Arial"/>
                <a:hlinkClick r:id="rId1"/>
              </a:rPr>
              <a:t>http://www.ruby-lang.org/en/downloads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b a text edito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ITE comes with the one-click install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by Developer Tools for Eclip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tana – Ruby-centric Eclipse dis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y popular editors support Ruby syntax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rite your cod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un your code: ruby.exe yourfile.rb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cument your code: RDo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The Alien Ruby RFID API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 set of classes and example cod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asses includ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ienTa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ienTag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ienRea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ienConnec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xamples cover use of the classes and simple use cases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cumented with RDo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o-generates html files like JavaDo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The Ruby Programming Language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54040" y="1412640"/>
            <a:ext cx="7734240" cy="44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ure ~10 years old, came out of Japa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Highly object-orient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terpreted (no compilation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utomatic garbage colle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-platfor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exible types (‘Duck’ typing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ry readable cod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nds itself to Domain Specific Langu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oaring popularity: Ruby on Rail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Highly Object-Oriented?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Highly Object-Orient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Everything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s an object: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5.times 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print "Hi!\n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666880" y="4800600"/>
            <a:ext cx="2895840" cy="990720"/>
          </a:xfrm>
          <a:prstGeom prst="cloudCallout">
            <a:avLst>
              <a:gd name="adj1" fmla="val 123245"/>
              <a:gd name="adj2" fmla="val 10063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oo! Pretty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477120" y="2590920"/>
            <a:ext cx="2209680" cy="28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Hi!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Hi!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Hi!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Hi!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Hi!</a:t>
            </a:r>
            <a:br>
              <a:rPr sz="2400"/>
            </a:b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029200" y="3429000"/>
            <a:ext cx="1219320" cy="838080"/>
          </a:xfrm>
          <a:prstGeom prst="rightArrow">
            <a:avLst>
              <a:gd name="adj1" fmla="val 50000"/>
              <a:gd name="adj2" fmla="val 36372"/>
            </a:avLst>
          </a:prstGeom>
          <a:solidFill>
            <a:srgbClr val="9f9f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Nice Features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weet support for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ing handling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gular expression pars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anything to do with networking or the we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 very rich set of built-in classes and modules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can build methods dynamically at run time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270160" y="466416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Rubyisms – Iterators &amp; Blocks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can write a loop that looks sort of like other languages, but why should you when you can do stuff like this?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nimals = ["dog", "cat", "duck", "moose"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nimals.each do |animal|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nt animal +"\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859440" y="3733920"/>
            <a:ext cx="9428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og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at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uck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ose</a:t>
            </a:r>
            <a:br>
              <a:rPr sz="2000"/>
            </a:b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334120" y="3886200"/>
            <a:ext cx="1218960" cy="838080"/>
          </a:xfrm>
          <a:prstGeom prst="rightArrow">
            <a:avLst>
              <a:gd name="adj1" fmla="val 50000"/>
              <a:gd name="adj2" fmla="val 36362"/>
            </a:avLst>
          </a:prstGeom>
          <a:solidFill>
            <a:srgbClr val="9f9f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Rubyisms – Variable Names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pends on variable scop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47600" y="1793880"/>
            <a:ext cx="8844120" cy="305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5467320" y="3621240"/>
            <a:ext cx="19591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3.14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eow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410080" y="2895480"/>
            <a:ext cx="762120" cy="6210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f9f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Classes / Attributes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34360" y="961920"/>
            <a:ext cx="335052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lass Animal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ef initialize(say="hi"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@what_i_say = s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@my_size = 1.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ef say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@what_i_s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ef size=(mysiz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@my_size = mysiz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ef siz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@my_siz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390920" y="1066680"/>
            <a:ext cx="3846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AMPLE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mycat = Animal.new("meow"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mycat.size = 3.14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puts mycat.siz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puts mycat.say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Rubyisms – Duck Typing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f it walks like a duck and it quacks like a duck…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898560" y="2422440"/>
            <a:ext cx="466416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fy = Shoe.new(“loafer”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fy.size = 1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uck = Animal.new(“quack”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uck.size = 3.14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uff = [duck, comfy]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uff.each do |thing|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nt thing.siz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562720" y="2895480"/>
            <a:ext cx="2895480" cy="1981440"/>
          </a:xfrm>
          <a:prstGeom prst="cloudCallout">
            <a:avLst>
              <a:gd name="adj1" fmla="val 23245"/>
              <a:gd name="adj2" fmla="val 12147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ople either love this or hate it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Rubyisms – Ex: The Hash Class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098800" y="1109520"/>
            <a:ext cx="46479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st_section = {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'cello' =&gt; 'string',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'clarinet' =&gt; 'woodwind',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'drum' =&gt; 'percussion',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'oboe' =&gt; 'woodwind',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'trumpet' =&gt; 'brass',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'violin' =&gt; 'string'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 inst_section['oboe']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 inst_section['cello']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 inst_section['bassoon']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oduces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"woodwind"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"string"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3T20:41:49Z</dcterms:created>
  <dc:creator>David Krull</dc:creator>
  <dc:description/>
  <cp:keywords/>
  <dc:language>en-US</dc:language>
  <cp:lastModifiedBy>David Krull</cp:lastModifiedBy>
  <dcterms:modified xsi:type="dcterms:W3CDTF">2008-10-28T19:26:53Z</dcterms:modified>
  <cp:revision>11</cp:revision>
  <dc:subject/>
  <dc:title>The Alien Ruby RFID API </dc:title>
</cp:coreProperties>
</file>